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2470-7AA6-4562-B6C6-150F2FA5B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E009-AF98-4228-81B3-7DF8598F1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2430-7EB7-4B9F-9A19-3C8E02A8E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2AA5-90B3-4E9B-A1D7-91E6923CD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4CD3-A213-4DDE-93CD-89970BACE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475B-FBA4-464C-BA52-5323B089C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5BF4-80EA-4DFD-80AF-59E5ED7B8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CA86-8C59-46ED-A186-9BDC2437B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56BD-E849-4845-804E-5C7162A1F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D345-8C4A-4F8C-9467-9C1D54FAC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1361-EDB5-4599-896A-F7FF10058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5D3D-A661-4347-8895-120C5A4A8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A443B-4C24-4B92-A593-FE9929A1BC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4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16000" y="1484280"/>
            <a:ext cx="741672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Непрерывное совершенствование как инструмент повышения конкурентоспособности национальной экономики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172360" y="622440"/>
            <a:ext cx="43200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-181080" y="62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324000" y="4724280"/>
            <a:ext cx="8640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.Кравч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юнь 2007, Украина, г.Судак, «Созвездие качеств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первое выступление: Сентябрь 2006 г.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-ый Алматинский Международный Форум по Качеству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8224920" y="612720"/>
            <a:ext cx="431640" cy="43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00000" y="1197000"/>
            <a:ext cx="7848720" cy="48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«В успешных компаниях ориентированность на качество является фундаментальной основой организационной стратегии поддержания конкурентоспособности на мировых рынках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рманд В. Фейгенбаум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46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79600" y="109440"/>
            <a:ext cx="152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И.Кравч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8145360" y="595440"/>
            <a:ext cx="43200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42920" y="1268280"/>
            <a:ext cx="7632720" cy="48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Сегодня, в условиях суровой конкуренции на рынке, любое промедление в освоении самых передовых технологий обходится дорого. Промедление в освоении   новейших методов менеджмента может стоить не меньш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асааки Има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79600" y="109440"/>
            <a:ext cx="152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И.Кравч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8199360" y="601560"/>
            <a:ext cx="432000" cy="43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42920" y="1125360"/>
            <a:ext cx="770580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После того как благодаря инновациям компания достигает конкурентного преимущества, о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состоянии его удерживать тольк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 помощью непрерывного совершенствован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Майкл Порте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79600" y="109440"/>
            <a:ext cx="152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И.Кравч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116000" y="1197000"/>
            <a:ext cx="7272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«Конкурентоспособность национальной экономики     определяется      способностью компаний производить конкурентоспособные товары и услуг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«Конкурентоспособность товаров и услуг определяется двумя факторами – качеством и производительностью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«Непрерывное совершенствование позволяет добиться основных конкурентных преимуществ – качества и производительност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137440" y="603360"/>
            <a:ext cx="43200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6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79600" y="109440"/>
            <a:ext cx="152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И.Кравч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8143920" y="628560"/>
            <a:ext cx="431640" cy="43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42920" y="981000"/>
            <a:ext cx="755964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Долгосрочная и устойчивая конкурентоспособность национальной экономики определяется способностью компаний непрерывно совершенствова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вою деятельность,            ориентированную на качество»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46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79600" y="109440"/>
            <a:ext cx="152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И.Кравч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116000" y="119700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137440" y="603360"/>
            <a:ext cx="43200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71640" y="765000"/>
            <a:ext cx="777708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исок использованной литерату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. Бенделл  Тон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Наставники по качеству.: Пер. с англ. М.: РИА «Стандарты и качество», 2000. - 48 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 Друкер  Питер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Задачи менеджмента в XXI веке.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.с англ.:-М.:Издательский дом «Вильямс», 2003. - 272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нти Тито, Кондо Ëсио, Ватсон Грегор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Качество  в  XXI веке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ль  качества  в  обеспечении конкурентоспособности и устойчивого развития.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. с англ..-М.: РИА «Стандарты и качество», 2005. - 280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рейнер Стюарт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Ключевые идеи  менеджмента.: Пер. с англ. - М.: ИНФРА-М, 2002.-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XVII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347 с.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асааки Има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Кайдзен: Ключ к успеху японских компа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. с англ. - 2-е изд.- М.:«Альпина Бизнес Букс», 2005. - 274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6. Масааки Имаи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мба Кайдзен: путь к снижению затрат и  повышению качества.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. с англ. - М.: «Альпина Бизнес Букс»,  2005. - 346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7. Мэнкью Грегори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ринципы экономикс. - СПБ: Питер Ком, 1999. - 784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8. Портер Майкл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онкуренция.: Пер.с англ. - М.: Издательский  дом «Вильямс», 2005. - 608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Портер Майкл,  Такеути Хиротака, Сакакибара Марико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Японская экономическая модель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жет ли Япония конкурировать?: Пер. с англ. - М.: «Альпина Бизнес Букс» 2005. - 262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0. Фидельман Г.Н., Дедиков С.В., Адлер Ю.П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Альтернативный  менеджмент: путь к глобальн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курентоспособности -М.: «Альпина Бизнес Букс», 2005. - 186 с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79600" y="109440"/>
            <a:ext cx="152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И.Кравч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116000" y="119700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137440" y="603360"/>
            <a:ext cx="43200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27000" y="2637000"/>
            <a:ext cx="7317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19640" y="3933720"/>
            <a:ext cx="29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.Кравч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vankravchenko.k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k@ivankravchenko.k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217000" y="6382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58920" y="692280"/>
            <a:ext cx="7200720" cy="56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«Я говорю своим друзьям из Восточной Европы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«Если Вы хотите процветать, Вам необходимо жить по принципу: «с волками жить, по волчьи выть», научится жить по законам стаи. Вы не должны ожидать от нас того, что мы станем играть по Вашим правилам. Мы слишком сильны и не поступимся ни одной своей позицией ради того, чтобы помогать Вам – это противно человеческой природе. Естественно, что мы предпочтем вкладывать средства, чтобы заставить Вашу экономику развиваться. Наши товары дорогие, и мы крайне заинтересованы продвигать их туда, где существуют реальные возможности их покупать. А Вам для того, чтобы развиваться, необходимо напряженно работать самим. Вы должны стартовать с должной мотивацией и не забывать о том, что у Вас есть всего один единственный шанс»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альтер Мазин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46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79600" y="109440"/>
            <a:ext cx="152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И.Кравч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86000" y="187308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101080" y="476280"/>
            <a:ext cx="45252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43120" y="2008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24400" y="2124000"/>
            <a:ext cx="2341440" cy="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95640" y="1341360"/>
            <a:ext cx="1433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онкуренто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пособная эконом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251240" y="2174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49880" y="2151000"/>
            <a:ext cx="250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онкурентоспособн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трас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955960" y="2841480"/>
            <a:ext cx="348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онкурентоспособные компан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623320" y="3289320"/>
            <a:ext cx="41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онкурентоспособные товары и услуг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10000" y="3776760"/>
            <a:ext cx="233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оизводитель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121280" y="4191120"/>
            <a:ext cx="109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ачест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30440" y="4614840"/>
            <a:ext cx="617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епрерывное совершенство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59280" y="2781360"/>
            <a:ext cx="325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701720" y="4581000"/>
            <a:ext cx="5923080" cy="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050920" y="4149720"/>
            <a:ext cx="52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340000" y="3716280"/>
            <a:ext cx="467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00360" y="3274920"/>
            <a:ext cx="3986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403280" y="549360"/>
            <a:ext cx="6551640" cy="4464000"/>
          </a:xfrm>
          <a:prstGeom prst="triangle">
            <a:avLst>
              <a:gd name="adj" fmla="val 50278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58920" y="5589720"/>
            <a:ext cx="6999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ерархия конкурентоспособности в аспекте ка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46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9600" y="109440"/>
            <a:ext cx="152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И.Кравч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8202600" y="623880"/>
            <a:ext cx="450720" cy="466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116000" y="1197000"/>
            <a:ext cx="7416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«Конкурентоспособность предприятия или нации представляет меру их способности в условиях свободного и честного рынка производить и поставлять товары и услуги, отвечающие справедливым международным рыночным требованиям и одновременно приносящие выгоды работникам предприятия или гражданам стран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мериканский со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 конкурентоспособ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79600" y="109440"/>
            <a:ext cx="152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И.Кравч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8245440" y="617400"/>
            <a:ext cx="441360" cy="408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258920" y="1197000"/>
            <a:ext cx="734544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Конкурентоспособность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национальной экономики определяется способностью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компаний производить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конкурентоспособные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товары и услуг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9600" y="109440"/>
            <a:ext cx="152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И.Кравч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8148600" y="700200"/>
            <a:ext cx="459000" cy="433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116000" y="1557360"/>
            <a:ext cx="75596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онкурентоспособность товаров и услу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еобходимое  каче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емлемая  ц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79600" y="109440"/>
            <a:ext cx="152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И.Кравч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8099280" y="612720"/>
            <a:ext cx="466920" cy="468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187280" y="981000"/>
            <a:ext cx="734544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«Единственная разумная концепция конкурентоспособности на национальном уровне – это производительность»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Майкл Портер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«Причем производительность должна быть не просто высокой, т.е. не уступающей уровню производительности в странах, лидирующих в данной индустрии, но самой высокой; только в этом случае страна может со временем стать мировым лидером в тех или иных отраслях»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Питер Друкер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83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79600" y="109440"/>
            <a:ext cx="152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И.Кравч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8137440" y="584280"/>
            <a:ext cx="43200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258920" y="1557360"/>
            <a:ext cx="756108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«Конкурентоспособность национальной экономики определяется способностью компаний производить конкурентоспособные товары и услуг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«Конкурентоспособность товаров и услуг определяется двумя факторами – качеством и производительностью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79600" y="109440"/>
            <a:ext cx="152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И.Кравч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8218440" y="611280"/>
            <a:ext cx="43200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42920" y="1773360"/>
            <a:ext cx="7632720" cy="32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Производительность возрастает, когда качество улучшаетс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 сожалению, этот очевидный факт известен лишь избранным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.-Эдвардс Демин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46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79600" y="109440"/>
            <a:ext cx="152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И.Кравч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2T05:01:58Z</dcterms:created>
  <dc:creator>Кирилл</dc:creator>
  <dc:description/>
  <dc:language>en-US</dc:language>
  <cp:lastModifiedBy>User</cp:lastModifiedBy>
  <dcterms:modified xsi:type="dcterms:W3CDTF">2013-09-16T10:44:32Z</dcterms:modified>
  <cp:revision>89</cp:revision>
  <dc:subject/>
  <dc:title>Ассоциация Лидеров Качества </dc:title>
</cp:coreProperties>
</file>